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30F-679A-4F0C-A404-3EA65F7C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43BA-5A45-4873-B838-B20B7FC6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017-1466-4270-9C0E-12F0A2B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8B3-F5B0-42B4-AF06-F9FF9250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2DA-F624-41C7-BCFE-EB254688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B01-B0FB-4130-9C3B-80C1617A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5D7-63DF-43A9-A0C0-E440391A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D45-2D4E-4EC4-B2B9-79FE2EF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892-D1B6-4158-B3DF-57FF76B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B43-BB26-41B6-A84D-7432C6A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984-D8E7-47D5-9868-8558CC1F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E1A-8553-4407-ACB2-1447AAC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F68-C895-422B-9044-DBF9AB8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7CB-AE96-45F6-8683-33F24F96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20A-FFB3-49B7-A6E1-04E91A31E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tatic.guim.co.uk/sys-images/Guardian/Pix/pictures/2009/10/13/1255461205065/Benito-Mussolini-in-Dress-002.jpg"/>
          <p:cNvPicPr/>
          <p:nvPr/>
        </p:nvPicPr>
        <p:blipFill>
          <a:blip r:embed="rId1"/>
          <a:stretch/>
        </p:blipFill>
        <p:spPr>
          <a:xfrm>
            <a:off x="380880" y="228600"/>
            <a:ext cx="4381560" cy="2629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63360" y="-868320"/>
            <a:ext cx="2524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63360" y="-868320"/>
            <a:ext cx="2524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://0.tqn.com/d/history1900s/1/0/D/A/1/hitler47.jpg"/>
          <p:cNvPicPr/>
          <p:nvPr/>
        </p:nvPicPr>
        <p:blipFill>
          <a:blip r:embed="rId2"/>
          <a:stretch/>
        </p:blipFill>
        <p:spPr>
          <a:xfrm>
            <a:off x="3200400" y="3048120"/>
            <a:ext cx="2695680" cy="373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pbs.org/behindcloseddoors/tmp_assets/stalin-bio.jpg"/>
          <p:cNvPicPr/>
          <p:nvPr/>
        </p:nvPicPr>
        <p:blipFill>
          <a:blip r:embed="rId3"/>
          <a:stretch/>
        </p:blipFill>
        <p:spPr>
          <a:xfrm>
            <a:off x="380880" y="3124080"/>
            <a:ext cx="2619360" cy="337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sites.duke.edu/wcwp/files/2009/12/Franco.jpg"/>
          <p:cNvPicPr/>
          <p:nvPr/>
        </p:nvPicPr>
        <p:blipFill>
          <a:blip r:embed="rId4"/>
          <a:stretch/>
        </p:blipFill>
        <p:spPr>
          <a:xfrm>
            <a:off x="6019920" y="457200"/>
            <a:ext cx="2990880" cy="336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upload.wikimedia.org/wikipedia/commons/thumb/f/f0/Hideki_Tojo.jpg/220px-Hideki_Tojo.jpg"/>
          <p:cNvPicPr/>
          <p:nvPr/>
        </p:nvPicPr>
        <p:blipFill>
          <a:blip r:embed="rId5"/>
          <a:stretch/>
        </p:blipFill>
        <p:spPr>
          <a:xfrm>
            <a:off x="6553080" y="3962520"/>
            <a:ext cx="20955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Shaw Expl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nps.gov/history/history/online_books/npswapa/gallery/albums/album13/PH16Shawexplod.jpg"/>
          <p:cNvPicPr/>
          <p:nvPr/>
        </p:nvPicPr>
        <p:blipFill>
          <a:blip r:embed="rId1"/>
          <a:stretch/>
        </p:blipFill>
        <p:spPr>
          <a:xfrm>
            <a:off x="777960" y="1676520"/>
            <a:ext cx="6994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izona.jpg"/>
          <p:cNvPicPr/>
          <p:nvPr/>
        </p:nvPicPr>
        <p:blipFill>
          <a:blip r:embed="rId1"/>
          <a:stretch/>
        </p:blipFill>
        <p:spPr>
          <a:xfrm>
            <a:off x="1523880" y="1676520"/>
            <a:ext cx="65516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pearl-harbor.com/arizona/images/arizona_memorial_pearl_harbor.jpg"/>
          <p:cNvPicPr/>
          <p:nvPr/>
        </p:nvPicPr>
        <p:blipFill>
          <a:blip r:embed="rId1"/>
          <a:stretch/>
        </p:blipFill>
        <p:spPr>
          <a:xfrm>
            <a:off x="533520" y="1905120"/>
            <a:ext cx="824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pacificmap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S Photo Gall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286000" y="296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ps.gov/history/history/online_books/npswapa/gallery/albums/album13/PH1.ht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erica in WWII mobilized in a way never seen before – or sinc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828800"/>
            <a:ext cx="409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Use i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Wear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Make it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"/>
              </a:rPr>
              <a:t>Or do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86400" y="2057400"/>
            <a:ext cx="38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Berlin Sans FB Demi"/>
              </a:rPr>
              <a:t>Victory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19720" y="3733920"/>
            <a:ext cx="517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Ration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Meat, g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Tires, wom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Nylon stock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Goudy Stout"/>
              </a:rPr>
              <a:t>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447200" y="403848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Matura MT Script Capitals"/>
              </a:rPr>
              <a:t>V-M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360600" y="57150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Bold"/>
              </a:rPr>
              <a:t>Black 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zing for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r Production Board (WW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Office of War Mo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ald Nel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B not very power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red power to O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mes F. Byr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ize economy for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’t purchases of military suppl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e of Price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r Industries Board (WW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nard Bar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 gov’t purchases of military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 which factories would convert to wa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prices for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gov’t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e of Food Administration (Hoover), Coal,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and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ormous boost to 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bor shor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restrictions on un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Steel 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rike P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dcat strikes still exi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sevelt threat to take over mines (UM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ormous boost to 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’l War Labor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ured industry to grant concessions to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hr day, equal pay, rt of union to organ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ers had to forgo stri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dlow Massac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front Arti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omefront_001.JPG"/>
          <p:cNvPicPr/>
          <p:nvPr/>
        </p:nvPicPr>
        <p:blipFill>
          <a:blip r:embed="rId1"/>
          <a:stretch/>
        </p:blipFill>
        <p:spPr>
          <a:xfrm>
            <a:off x="838080" y="1600200"/>
            <a:ext cx="7020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intedonlegs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57760" cy="472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waves.jpg"/>
          <p:cNvPicPr/>
          <p:nvPr/>
        </p:nvPicPr>
        <p:blipFill>
          <a:blip r:embed="rId2"/>
          <a:stretch/>
        </p:blipFill>
        <p:spPr>
          <a:xfrm>
            <a:off x="2057400" y="1676520"/>
            <a:ext cx="2143080" cy="30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waac_poster.jpg"/>
          <p:cNvPicPr/>
          <p:nvPr/>
        </p:nvPicPr>
        <p:blipFill>
          <a:blip r:embed="rId3"/>
          <a:stretch/>
        </p:blipFill>
        <p:spPr>
          <a:xfrm>
            <a:off x="457200" y="3581280"/>
            <a:ext cx="1990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3.gstatic.com/images?q=tbn:ANd9GcTX5KJEeHniq7U5SabMdW3OIloGqp3NKUyHrwJs1aRo3KyFDxhrPlu076BHHw"/>
          <p:cNvPicPr/>
          <p:nvPr/>
        </p:nvPicPr>
        <p:blipFill>
          <a:blip r:embed="rId1"/>
          <a:stretch/>
        </p:blipFill>
        <p:spPr>
          <a:xfrm>
            <a:off x="3657600" y="2209680"/>
            <a:ext cx="2832120" cy="32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jdereport.com.au/wp-content/uploads/2009/04/winston_churchill_victory_1.jpg"/>
          <p:cNvPicPr/>
          <p:nvPr/>
        </p:nvPicPr>
        <p:blipFill>
          <a:blip r:embed="rId2"/>
          <a:stretch/>
        </p:blipFill>
        <p:spPr>
          <a:xfrm>
            <a:off x="5943600" y="304920"/>
            <a:ext cx="2857680" cy="27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upload.wikimedia.org/wikipedia/commons/thumb/b/b8/FDR_in_1933.jpg/220px-FDR_in_1933.jpg"/>
          <p:cNvPicPr/>
          <p:nvPr/>
        </p:nvPicPr>
        <p:blipFill>
          <a:blip r:embed="rId3"/>
          <a:stretch/>
        </p:blipFill>
        <p:spPr>
          <a:xfrm>
            <a:off x="457200" y="304920"/>
            <a:ext cx="278280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upload.wikimedia.org/wikipedia/commons/thumb/2/27/De_Gaulle-OWI.jpg/200px-De_Gaulle-OWI.jpg"/>
          <p:cNvPicPr/>
          <p:nvPr/>
        </p:nvPicPr>
        <p:blipFill>
          <a:blip r:embed="rId4"/>
          <a:stretch/>
        </p:blipFill>
        <p:spPr>
          <a:xfrm>
            <a:off x="6705720" y="3276720"/>
            <a:ext cx="2209680" cy="33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infranco.longwoodteachers.com/8thgrade/New%20Deal/chat1.jpg"/>
          <p:cNvPicPr/>
          <p:nvPr/>
        </p:nvPicPr>
        <p:blipFill>
          <a:blip r:embed="rId5"/>
          <a:stretch/>
        </p:blipFill>
        <p:spPr>
          <a:xfrm>
            <a:off x="152280" y="4038480"/>
            <a:ext cx="3429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I (WWI) vs. OWI (WW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loose-lips-sink-ships-1.jpg"/>
          <p:cNvPicPr/>
          <p:nvPr/>
        </p:nvPicPr>
        <p:blipFill>
          <a:blip r:embed="rId1"/>
          <a:stretch/>
        </p:blipFill>
        <p:spPr>
          <a:xfrm>
            <a:off x="4724280" y="1523880"/>
            <a:ext cx="3724560" cy="502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'Destroy this mad brute' WWI propaganda poster (US version).jpg"/>
          <p:cNvPicPr/>
          <p:nvPr/>
        </p:nvPicPr>
        <p:blipFill>
          <a:blip r:embed="rId2"/>
          <a:stretch/>
        </p:blipFill>
        <p:spPr>
          <a:xfrm>
            <a:off x="457200" y="1371600"/>
            <a:ext cx="3403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nic Distinctions Blurred/ Curtailment of Civil Lib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tred, prejudice towards Germans, Italians, Communists etc – SAV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berty Cabbage”, “Liberty Sausag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rman movies, language from schools ban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 Percent Americ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 violations of Civil Lib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pionage &amp; Sedition 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enck v. US/ Abrams v. 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lmer Raids/Red S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400"/>
            <a:ext cx="404172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whole, this war seemed to blur ethnic distinctions rather than height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ttle  hostility towards German-Americans, Italian-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 for Japanese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as many widespread, flagrant violations of Civil Lib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ew jailing of Nazi/American fascist, but nothing widesp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’t  generally left Socialists and Communists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ities and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life like for you during WW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advances are you seeing in your way of life? Examples of thes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hat prejudices/discrimination still exist?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ities &amp;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838080"/>
          <a:ext cx="8229600" cy="5978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ushmm.org/lcmedia/map/lc/image/eur86810.gif"/>
          <p:cNvPicPr/>
          <p:nvPr/>
        </p:nvPicPr>
        <p:blipFill>
          <a:blip r:embed="rId1"/>
          <a:stretch/>
        </p:blipFill>
        <p:spPr>
          <a:xfrm>
            <a:off x="228600" y="914400"/>
            <a:ext cx="8128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286000" y="3105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teachingamericanhistory.org/neh/interactives/neutralit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2" descr=""/>
          <p:cNvPicPr/>
          <p:nvPr/>
        </p:nvPicPr>
        <p:blipFill>
          <a:blip r:embed="rId1"/>
          <a:stretch/>
        </p:blipFill>
        <p:spPr>
          <a:xfrm>
            <a:off x="2073240" y="554040"/>
            <a:ext cx="4529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62120" y="396252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foreign policy was to abolish the Treaty of Versailles.   It is futile nonsense for the rest of the world to pretend today that I did not reveal this program until 1933 or 1935 or 1937.   Instead of listening to foolish chatter, these gentlemen would have been wiser to read what I have written thousands of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, talking on 15 March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95280" y="27432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 power on earth will get me out of this building alive!“ Hitler, talking on 30, January, 1933 after becoming Chancellor of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75160" y="609480"/>
            <a:ext cx="758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chieved an equal understanding of the importance of phys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or toward the individual and the masses…Terror at th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mployment, in the factory, in the meeting hall, an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 of mass demonstrations will always be successful un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ed by equal terror…Hitler in Mein K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reaty of Versailles did 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eague of nations failed to keep pe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orldwide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Appeasement encouraged agg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itler was an expansi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Events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tler’s rearmament rally in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litarization of the Rhineland, 19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etenland and the Munich Agreement 19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asion of Czechoslovakia 19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zi-Soviet Pact, 19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asion of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trality 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ality Acts of 1935,36,37, 3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h and Ca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35 – non-military g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39 – arms embargo lif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y “Destroyers for Bases” in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d-Lease Program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anded with US warships escorting British ships for part of jour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si-naval war with Germ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Service Act of 19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ion of Pearl 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the Japanese attack on P.H. unprovoked  and without warning like FDR said, or was it part of a deliberate plan by the President to make the Japanese force a reluctant US into w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the administration know of the attack and did FDR deliberately refrain from warning Hawaii so that air raid’s effect would be more pro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S Arizona expl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donmooreswartales.files.wordpress.com/2011/04/vern-olsen-uss-arizona-burning.gif"/>
          <p:cNvPicPr/>
          <p:nvPr/>
        </p:nvPicPr>
        <p:blipFill>
          <a:blip r:embed="rId1"/>
          <a:stretch/>
        </p:blipFill>
        <p:spPr>
          <a:xfrm>
            <a:off x="1905120" y="1905120"/>
            <a:ext cx="5715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02:50Z</dcterms:created>
  <dc:creator>dmcnamar</dc:creator>
  <dc:description/>
  <dc:language>en-US</dc:language>
  <cp:lastModifiedBy>dmcnamar</cp:lastModifiedBy>
  <dcterms:modified xsi:type="dcterms:W3CDTF">2012-03-19T16:39:33Z</dcterms:modified>
  <cp:revision>39</cp:revision>
  <dc:subject/>
  <dc:title>Slide 1</dc:title>
</cp:coreProperties>
</file>